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BFFCA7-6333-4087-B29C-E81BFED9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413692-24FA-4966-8DAF-FC7D2C07865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04B-EE77-478D-997D-1E370FE8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F27-DE80-45E6-A0AF-E4776038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84B-C9E5-45C8-A81C-E5FBB4F72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DD2-58DC-44EC-8E30-460A1606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D2D5-CD64-4A0B-AAA3-5CA0E2A1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7300-AB7D-4C6A-ADFE-2BD5AA89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1BF6-477A-458F-9C0E-99BCDC4E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524E-445C-436F-80B9-BCAFCCBF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A476-E190-45BD-A6A7-A7BEFF94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30BF-48CF-4C8C-99E4-03C104AF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1275-4056-496B-AEDA-6108E12F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7C7-8523-4AEB-9C26-6E3BE0E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D6DD-C172-4450-9259-60A9F0E0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4729-A80C-4DE5-99DC-19B39C74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8D68-8CD5-4F24-85BA-3C54DBA3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FB33-3672-4113-A66C-A428B800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268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187800" y="160020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82268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3187800" y="3964320"/>
            <a:ext cx="12999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C196-2DE8-478A-BDEC-7B514CF5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66F-11AC-4BE1-8BEC-33858EC9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7B6-077C-4227-A45C-AA5E3305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A6E-FF6F-41A9-B91B-CD3F26E6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1BC-920B-49FC-8926-DB9493C4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349-B187-4AA6-A7D0-AF781EE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6480" y="396432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C510-7BE9-47D9-9B42-B709A7D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6480" y="1600200"/>
            <a:ext cx="19702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38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2B3-0B2B-4D16-B00C-28E876E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C18F2D-F80F-4164-8B4C-AE5F3619E39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0716B5-1828-4BBA-B883-8D7DE4B2D70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illy Goats Gruf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By: Gian and R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pos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upon a time there were three billy goats, who were to go up to the hillside to make themselves fat, and the name of all three was "Gruff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8" descr="images.jpeg"/>
          <p:cNvPicPr/>
          <p:nvPr/>
        </p:nvPicPr>
        <p:blipFill>
          <a:blip r:embed="rId1"/>
          <a:srcRect l="0" t="-152" r="0" b="-152"/>
          <a:stretch/>
        </p:blipFill>
        <p:spPr>
          <a:xfrm>
            <a:off x="4648320" y="1600200"/>
            <a:ext cx="403812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way up was a bridge over a cascading stream they had to cross; and under the bridge lived a great ugly troll , with eyes as big as saucers, and a nose as long as a pok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11" descr="images-1.jpeg"/>
          <p:cNvPicPr/>
          <p:nvPr/>
        </p:nvPicPr>
        <p:blipFill>
          <a:blip r:embed="rId1"/>
          <a:srcRect l="0" t="-882" r="0" b="-882"/>
          <a:stretch/>
        </p:blipFill>
        <p:spPr>
          <a:xfrm>
            <a:off x="4813200" y="1600200"/>
            <a:ext cx="4038120" cy="45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ing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once the first two Billy Goats Gruff got through and where safe on the hillside then came the big Billy Goat Gruff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1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m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22560" indent="-32256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"Who's that tramping over my bridge?" roared the troll."It's I! The big Billy Goat Gruff ," said the billy goat."Now I 'm coming to gobble you up," roared the troll.Well, come along! I've got two spears, And I'll poke your eyeballs out at your ears; I've got besides two curling-stones ,And I'll crush you to bits, body and bon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3859560" cy="43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lling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-3409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then he flew at the troll, and poked his eyes out with his horns, and crushed him to bits, body and bones, and tossed him out into the casc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at the big Billy Goat Gruff went up to the hillside. Then he meet up with the other Billy Goats Gruf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4691160" y="1746720"/>
            <a:ext cx="3995280" cy="437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ou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the billy goats got so fat they were scarcely able to walk home again. And if the fat hasn't fallen off them, why, they're still fat; and so,Snip, snap, snout. This tale's told out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308480" cy="43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  <Words>311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36:19Z</dcterms:created>
  <dc:creator>Gian Zenti</dc:creator>
  <dc:description/>
  <dc:language>en-US</dc:language>
  <cp:lastModifiedBy>Gian Zenti</cp:lastModifiedBy>
  <dcterms:modified xsi:type="dcterms:W3CDTF">2009-12-07T18:36:49Z</dcterms:modified>
  <cp:revision>4</cp:revision>
  <dc:subject/>
  <dc:title>The Billy Goats Gruff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7</vt:r8>
  </property>
</Properties>
</file>